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8D9-93E0-4656-9F86-90E2D53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C4F-0CCE-4491-9BAA-F0615E3F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28EB7-1BBF-4FF3-B8CB-83EBBCC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F5DE6-929B-44CB-8EF9-DD262DE3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B96FB-B04A-40A4-8036-18C7F57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1A24A-86CF-47C2-A7C8-7F04F8B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19A0C-D49F-402E-A7D7-1D69F79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75C59-D583-480D-858B-D00A186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FF2B9-A241-4107-A932-F995C6CD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80ABF-1AE6-4C38-8645-BF3E3B20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83FEC-B4EC-437D-B562-107E4B3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A0D3A-7AB3-44C3-95DB-DB4007FB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28E-3F71-40D2-B796-E569197A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8073A-DC80-49F4-ACD0-799600E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1D6CC-D147-4B77-AC95-97B45435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F9118-3982-423B-A15F-BA3A52DC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0859-83CD-44EC-AAAB-87683DE5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8FD9C-2EDA-4A55-B745-39DBDCF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1CF6F-8F80-4F6F-AD4B-C1BCBDA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78CC5-0625-4949-9DB0-E69FD17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46BA9-2AF3-44CD-A8AE-8362730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4C85B-ED2C-4BDA-9728-182917EF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D61DB-49B7-40DC-B08D-4AE59BD1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B5A-B6DA-4DC4-8B50-6CF928C9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FC038-40E8-4515-81B2-B2DD01FA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9E2A-DC2D-4603-AB55-AB56604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6389D-B156-424A-BC41-1F4387A8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6A332-E16C-47B5-B7C0-E58E18D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61BEC-E180-4625-A9BB-D6E6D603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C062-FE2E-4252-BA73-324F25F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B819F-FE10-4456-B475-F6EE400E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3E527-97AA-410E-A466-92400CF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97ED-1320-435C-B3A2-A37EF70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57CA-A595-4ABA-BA2B-5B801CA9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86B3-2FEC-4506-90F5-E2754618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BFA48-F8EC-4E2B-943C-E489813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3BAF-AC88-4526-80FE-1A740647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357D-596F-4DF8-A5FE-B66B41CB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E645-1BB7-457D-BB24-A078CD0B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3CFFF-F198-4CD8-8718-A5AD6462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E1027-3072-432A-BEB1-9BB3CD0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AB3DE-BAA2-459A-99CC-E0A4901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2BB0E-512B-4E8F-B7CF-7D80A5D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C6686-D2F4-4C76-B060-C721207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FBA31-3BA0-4EBF-B590-B55B780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F08-7744-4F2D-B359-DC48337C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91271-48A6-48CB-B7F8-4D2C398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95570-4B6A-4C04-825A-1AB75D2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A1AA3-53F4-4F8B-9EA7-5575DD2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5E18C-0D8D-4C70-ADA7-7F89D8B4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08FE1-30BD-4E73-AB1A-89B2AA90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FCC1-2D78-4853-BC09-A187E6BC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106E-B095-4C51-B1C8-6F86BA6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67F1-380E-4F6E-961C-14E600A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9B5D-75E9-4EFD-97F2-8D9F00B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747-203B-4195-B429-893CDCE1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B30-62F7-40E9-AF6F-5CA7BE91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1A0-92B8-44CC-B1C6-71074CB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3B4-7D01-4282-B1E8-FAFF87A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875-252A-4F6C-897D-D0B127B3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709B-BC0C-4A7C-91C3-8D2D20A7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63C1-45C2-405C-ADED-2126FF9E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B141-3EB3-40ED-8999-2BED4177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536F-41E2-4863-B3B6-74222AC3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898F-5073-4999-A038-01A9BF3D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D32B-CE86-48C0-9E0A-BFD769E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BBCF-D197-429E-A0C6-A480426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D59-5338-4CC8-A20A-4BB98FC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FBBA-1A74-4955-A683-C1CB234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75CC-2592-43CB-A8A9-7B48A88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1419-3752-4776-AA68-590711D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6BC1-6417-4259-8C00-E2D7B336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879E-0E9C-4D46-A440-A4BB6C79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2754-40D4-409E-BBA2-64F9AC06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7032-B2EE-4983-85B6-97DFB2EF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5F54-E6E9-4A04-A523-104B1B8C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3C84-F817-457B-A44E-C64B378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8735-FAFD-4DD6-84D5-BCA786C5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19C-0375-4938-87F8-E4521979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3AA9-2D01-4999-8B27-B194CA5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C008-D9D1-4C6C-8096-EBEE0911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C5E3-EF57-4022-A742-22C3578E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C6F7-FDCE-45F6-92ED-B55147A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B3F5-D886-43A6-82C5-17DDE72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F2BB-8D4A-4311-8D11-23ABA2C9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31D0C-FAD7-4A4E-BB73-8B25520F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7D2C-7025-4A12-88E5-66C215D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19D6-6173-48F5-8166-5BF48E01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F584-C24E-4802-84EB-B52611FD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230-3578-4417-9C39-C6DD9FDE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4E48-BFF0-4DA3-95F9-5ED790F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72F52-323B-4F35-94FF-8BF6FC3D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B464-387D-44B5-8A47-321C117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46DA-562C-4876-9054-B71FC32F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7361-157D-4E3D-9445-0A051E9F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6103F-D380-479E-95E6-6C6678A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44E4-CA89-4F83-9072-9D0F64F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A481-F24C-467E-820E-53EA47F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1482-9B83-4939-A654-B86BF0DF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7ECA-2883-480B-AA79-EE2B2CA1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A3C-775D-4543-9674-B0B57F65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4079-1C5C-4621-BF95-D8F077DC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324F-19F7-46E4-9237-097E86E4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F434B-408B-4EA5-8C7B-52616EBE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4C60-FBB5-4D83-AD82-9521F28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021FB-11D2-4D42-A057-88C7BA7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D54D-2D1C-4A1D-87F5-0CAAC5F8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DF76D-BE6B-494F-A982-9832DAD4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2433-4F21-4E99-96F2-FF93087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C1A4C-4D43-48EA-8B93-609E142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C150-D58C-4E83-9996-1B44C24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73A-D2DA-47FC-9CAE-34E2987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96EC-0F23-43B0-BD36-142C7547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8CAA-5E9B-45D7-8ABF-5A1D1AE6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81C6-3C05-45DB-AE09-ADDD32B5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F2C9E-908F-4BA8-8983-C65B649E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F98D0-D33F-4E03-B48E-7565032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7304-8AD9-431B-9FFA-04926DC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6E6E7-C40B-45E0-80AE-4C6C207D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336D5-0C3F-4464-9039-A74D4AD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88882-618D-4C19-994E-03902D7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8087-50B1-4C8C-B07B-F767DAE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A37-0BFF-4D0C-BF66-3A2C335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AB620-4D03-4A22-B822-B7E5D91B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036A-52EE-4535-9ECE-F6C31D2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F816-0751-45C7-B039-520FB8C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56D4-045F-4283-B3AB-ED0A65D9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98A5-69CC-42B9-AA22-DA95C36B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19C3-425C-43F6-9D72-925A4AFF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2288-EB5D-454E-B257-51E94E6C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4BA2-5DD5-4566-9536-3BD481B1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6736-8B94-4B70-AE21-33420EC2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CE92C-6E77-4F0D-B775-F43B4C97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83A-A7BC-4358-8AFD-EB5C167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CDBF5-541C-44F4-8DE8-3D4A4148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8F218-8AC7-4D62-9872-748BEE9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9A50-65D2-4180-8116-053DC0D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33BE-6134-440D-B888-B190BFD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EA0E-F598-44EC-A4D2-F840D564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6DA5-4328-4CF5-A238-3C4D0246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3937-0F63-468E-A6D1-0B4D15EC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9C1A-6ACD-4A7F-9AFA-4624181C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12DDA-3FAA-4A0A-A1F9-1F25DE62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210A8-01A4-481A-BE04-ABC1C50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FF7-E7F1-4047-8670-9B5760B028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76F1-7075-49E1-8361-26A0B2F837E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F89-4DF5-4D73-A6D0-1949421A6CD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08E-822A-45E2-BCB6-E900EB18CE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6C54-DE13-409D-8521-9EAE173FA1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63A8-C823-4A17-A197-9C0B2FB788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9B35-2B46-4529-A1C4-88E6B35DBA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30F-6E66-4BDE-BC11-FA17AA4DD93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B01C-573C-4243-AB3C-A1CD6F06BB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E24-CFAA-4254-B43A-DABEFFC3AE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1D7D-63AD-47A2-93CF-476CDA428F4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7C82-70BC-45D9-90AB-6CEF14B58C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40 Svoju lásku dávam t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u lásku dávam t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 môj jedi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pustil si slávu nebie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el za mňa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môj priateľ najvernej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ie som nikdy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vo chvíľach najtemnejší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boku vždy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rád všetky deti tv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teba milu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ajú vždy pravdy zdr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ečnej vlasti putu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smiem k ich chválospev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ja svoj hlas pripoj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tedy pre mňa v svete cel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ôže nič milšie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mu menu dobroreč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ždy vrúcne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 láske tvojej svedč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de hlásať návrat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je blízky ten deň slávn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k tebe privin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večne teba sláv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tvoju chváliť sm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7:50Z</dcterms:modified>
  <cp:revision>21</cp:revision>
  <dc:subject/>
  <dc:title>Je veľký náš Pán, on slávy je Kráľ Nech do všetkých strán  spev vrúcnych znie chvál.</dc:title>
</cp:coreProperties>
</file>